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5080" y="0"/>
            <a:ext cx="29350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5720"/>
            <a:ext cx="29354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5080" y="9405720"/>
            <a:ext cx="293508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376A-554A-45C3-B180-26E14D0739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use of TCP/IP enables a LAN to easily support web servers.  This means that that the development of websites on a network is eas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35440" y="9406080"/>
            <a:ext cx="29350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75DB-4C45-4938-840A-507DC974D9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35440" y="9406080"/>
            <a:ext cx="29350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7E41-33BA-4FD2-8A25-4299ABCE40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first Ethernet network was designed and tested in 1973 at Xerox Corporation’s Palo Alto Research Centre by Bob Metcalf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A ‘node’ is any device attached to a network that is capable of requesting and sending packets (e.g. Usually a PC, network print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thernet was originally designed to operate on a LAN, usually within a single building. Ethernet networks originally could only be a few hundred metres long, making them incapable of connecting widely separated buildings. Advancements over time have allowed Ethernet networks to expand their range considerab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thernet does not use a central computer to control when data can be sent.  A node must listen to a network to make sure is sending a frame.  If two or more computers judge that a network is quiet and each proceed with sending data, a collision occurs.  To make sure that a collision does not happen again the network waits a random amount of time before the node checks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rames are sent by the sending device and receipted back to the sender from the receiver.  All frames being sent contain the destination node and sending node addres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arity is where the data (in binary code data is represented by 1s and 0s) in the packet are added together as if they wer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35440" y="9406080"/>
            <a:ext cx="29350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1632-ACB9-4FB3-9E65-BD10826931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0000" cy="37130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7880" y="4703760"/>
            <a:ext cx="54165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acket switching is the term used to describe the process of breaking a message into several small packets, sending the packets along the b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available route (individual packets may travel different routes) and then reassembling the data at the destin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35440" y="9406080"/>
            <a:ext cx="29350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52FF-B230-4DF4-800E-5216D5FEAF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49C1-CFCC-4072-BBD6-4F8EFA8A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104-A782-446E-B2FD-CDA69A4B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F094-8995-486B-A5FB-FABE05AB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A21-7F73-4697-9FAF-1D6B49F7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CBA-20E2-4963-8B35-4EBE0419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2B9-F066-49E7-97F4-C7DFCDDD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4CB-DDB5-4F55-A2E0-A17D97EC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CAA-508C-4E53-863E-E62135F6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920-92AF-496D-AFD5-2C40B660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429B-B281-47BE-9EF9-9DC6160B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F65-8DE4-4F9B-9EE6-BDFE1E15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EA8-C68E-4045-B56A-1E9C0EBB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15E9-953E-4EEE-A13C-B8673849BD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NTR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R 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NIT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AE8D-9C37-43B6-A058-8E1562377E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ff"/>
                </a:solidFill>
                <a:latin typeface="Calibri"/>
                <a:ea typeface="Times New Roman"/>
              </a:rPr>
              <a:t>IP (Internet Protocol)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nce a file has been chopped into packets, the IP delivers each packet to its destin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ach packet can take a different route from A to B, bouncing from router to router getting more precise with each h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route is dynamically chosen for each packet, based on internet conditions at that tim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otocols – TCP/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802.11 Wireless Standard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(WI-FI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802.11 standard defines how two computers or devices can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ommunicate using radio wav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network that uses this known as a </a:t>
            </a: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WI-FI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network.  Wi-Fi is known as wireless fide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i-Fi Networks allow computers up to 50 metres apart to connect without the need for wi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648320" y="1614600"/>
            <a:ext cx="40384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802.11 Wireless Standard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(WI-FI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Computers fitted with a Wi-Fi network card can split the available radio bandwidth which allows a number of computers using these cards to talk at the same time with interfering each ot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 802.11 standard uses techniques that are similar to the Ethernet standard to control data flow. For this reason, a Wi-Fi network can be easily connected to a wired Ethernet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648320" y="1916280"/>
            <a:ext cx="40384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Network communication standards</a:t>
            </a:r>
            <a:br>
              <a:rPr sz="4000"/>
            </a:b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Questions 22, 24, 26, 2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22.Why do manufacturers build products based on network standar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24. Identify the four components of all ethernet fra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26. How does a collision occur on a network? How does ethernet avoid repeated collisions of the same transmission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27.  TCP/IP uses smaller packets than other protocols. Why is this an advantage on the Interne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 intranet is an internal, secured environment that has a similar look and feel to the Internet, but operates as a local area networ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 intranet provides easy and fast access to information by employees in a familiar environment while keeping the information secure from the general publ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ENEFITS OF INTR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These include 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ccess to information in a controlled mann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ommunication within the organ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essages that log hardware and software problems with technical support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ontacts of who to approach for various problems or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raining through the publication of online user guides and computer-based training progr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WHAT INFORMATION, DOCUMENTS AND RESOURCES ARE ON THE SCHOOL INTRANET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NETWORK COMMUNICATION STAND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These have protocols that are an agreed sets of rules and procedures for computers to exchange informatio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These protocols are like humans agreeing to speak the same language during a conversatio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For two computers to exchange data, they must be using the same protocol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Calibri"/>
              </a:rPr>
              <a:t>Network standards have been established to overcome the problems of incompatibility on a network and to ensure that hardware and software components can be integrated into any network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CAN WE COME UP WITH DIFFERENT HUMAN PROTOCOLS THAT WE USE EVERY DA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protocol determi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type of error checking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data compression method, if one is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the sending device will indicate that it has finished sending a mes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the receiving device will indicate that it has received a mess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ETHERN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thernet is a network standard that describes communication over a single cable shared by all devices on the net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ny devices connected to this single cable can communicate with each other.  This gives the ability for the network to expand if more devices needed to be ad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thernet communicates between nodes in short messages called frames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rames also contain parity information, to check if the frame has arrived correct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4648320" y="2060640"/>
            <a:ext cx="40384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ETWORK PROTOC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re is a standard protocol for each network communication task, such 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how to send data over the Internet (TCP/IP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how to send and receive email (POP, IM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how to request and deliver web pages (HTT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how to request and deliver files (FT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AE87-59D2-45E5-AD98-B60D195156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04B5-F4E0-4931-BC2C-A56134BBAD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protocol is the most common method of putting data together for sending and receiving over network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the universal protocol for internet communications.  It is defined as how data is moved from one part of a network to ano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de up of 2 complementary protocol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ff"/>
                </a:solidFill>
                <a:latin typeface="Calibri"/>
                <a:ea typeface="Times New Roman"/>
              </a:rPr>
              <a:t>TCP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Transport Control Protoco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</a:t>
            </a:r>
            <a:r>
              <a:rPr b="1" lang="en-AU" sz="2000" spc="-1" strike="noStrike">
                <a:solidFill>
                  <a:srgbClr val="0000ff"/>
                </a:solidFill>
                <a:latin typeface="Calibri"/>
                <a:ea typeface="Times New Roman"/>
              </a:rPr>
              <a:t>IP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nternet Protoco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91835DIKH_w"/>
          <p:cNvPicPr/>
          <p:nvPr/>
        </p:nvPicPr>
        <p:blipFill>
          <a:blip r:embed="rId1"/>
          <a:stretch/>
        </p:blipFill>
        <p:spPr>
          <a:xfrm>
            <a:off x="4932360" y="1655640"/>
            <a:ext cx="3602160" cy="4581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CP / 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40384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TCP (Transport Communication Protoco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s files into 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ackets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o be sent across the internet or a network.  Each packet contai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address of the sen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destination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 chunk of data (e.g. 1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3A8E-54AE-4CA9-AEEE-432F428BFA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91871BgJF_w"/>
          <p:cNvPicPr/>
          <p:nvPr/>
        </p:nvPicPr>
        <p:blipFill>
          <a:blip r:embed="rId1"/>
          <a:stretch/>
        </p:blipFill>
        <p:spPr>
          <a:xfrm>
            <a:off x="4932360" y="1825560"/>
            <a:ext cx="3511440" cy="41245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otocols – TC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08:05:32Z</dcterms:created>
  <dc:creator>Education</dc:creator>
  <dc:description/>
  <dc:language>en-US</dc:language>
  <cp:lastModifiedBy>Education</cp:lastModifiedBy>
  <dcterms:modified xsi:type="dcterms:W3CDTF">2011-02-13T21:19:44Z</dcterms:modified>
  <cp:revision>20</cp:revision>
  <dc:subject/>
  <dc:title>INTRANETS</dc:title>
</cp:coreProperties>
</file>